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2AC-8A01-4153-8BE0-ED5E22DE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F2E-3175-4C6A-B0E9-D3A59C03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585-EF0F-4FF1-B882-A4A9C2DE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543-7B59-4EE8-B0B9-7FA42293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44F4-E316-4D58-8D31-A96F87D8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7435-7DE3-40CB-9F7C-35942244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03A5-2AC7-4D96-8309-6B6E7662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A9FE-AA83-4CC6-9A6A-5902A7E4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D0A5-141B-44B7-B863-BE8BE0E5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AE5B-11EA-4D70-9FF0-4B9A2C73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5635-11B5-4598-A001-37706F94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31E-497B-4CF1-B909-F18E9F35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C43C-FE1F-4F51-BD70-9C17FF74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3B86-A600-449D-B44B-47B2BADB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AA82-78DB-4732-861E-1E381AC7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A4D4-5F65-4787-AF50-009C44FA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DDA0-2D35-4324-A23A-3B6A3849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3A92-CA19-4ED4-97B4-ACD59C3D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186E-9A28-4D2E-9246-2A9FD621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5754-A2F5-4D07-BA65-0491817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B5B8-ABCD-49BA-A686-95C0754E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C9A7-5261-4312-8802-E3E5E90F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D6C-7E26-4299-BC71-C789D3AD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67BC-F996-4959-B549-094E5AFC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ECDC-EDB4-4A50-A4CB-6085330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D759-17C6-4E8F-BECF-B1B5E68D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200A-1F54-45B7-88E2-17CBFE62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C28F-5626-42CF-B61E-333178B0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5456-B839-4606-86E1-CFB243D9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7D8E-1D62-4B5E-9CFF-F3759781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D0986-36A6-4391-B6A3-D2A30821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2E83-141F-4A29-BC10-39CD929B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FDC8-240E-4976-B40B-A238C4D5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891-74EE-41DE-8323-1A8BAE20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6835-3CF0-4999-9D73-DE75585D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4D1D-2842-4747-A2BD-DB8B6438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B46C-1B09-49EE-B4CF-96B4D9DD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6C33-78D9-4D97-A29B-9C5B9277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3670-C068-417F-9E39-4AD3086D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281D-1A42-40AB-98A6-DC5B588D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852A-F921-47AD-973F-72B4285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23980-186C-4D11-9987-314C0661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FB7A-3940-4BC6-8C92-87647157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3924B-A8DA-42E2-9DDB-CC398E8E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748-B094-42AC-A1E0-B6465C86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B786D-4469-4C1A-AE0F-1F2E48C2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54E2-D7E2-4877-B2EC-7DFEC5FF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7DCF-E539-46B1-9D5A-230AA10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57DF-6486-403F-AEAB-AA4AED39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A37AF-8ECA-424F-856F-2D3547C7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AC8D-EB19-4978-9168-9F9B46E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3F69C-299E-4882-BEEF-AC8354C6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051C9-8C57-4B38-8206-ECE527D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6641A-0816-4C99-8148-FDD5200E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E940E-58AC-4E7B-B8CF-72EB34BA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3B0-3CBF-43CD-8F45-92130D70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98990-77BC-4542-9BAC-8B3F1566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CBFC9-215E-4051-844A-529EB19E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7744E-E488-417A-B3ED-6C5A33A5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F5283-9ED0-4DB3-9A99-22B98693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CC74C-F4CD-459B-ACD9-9894799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97886-0B63-47B5-BF20-B0C98998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9910D-2695-4134-BF40-AA2D76B8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6FBC-0EAF-4C63-8FB0-E14216F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5F284-5299-497D-9413-15572B3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A2CC-812C-4141-BEAD-300CDAA7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888-3B20-46A6-B961-1F41FC02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4D5A6-9E13-4AEA-B4D2-592A33F0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EC25B-2E20-479F-9C9C-D2052AAA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C3E2-3ECB-4441-945A-E5DD4AD0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E1C-CF8F-4D6B-BF8C-89E9F370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863-3609-4AFA-8F59-0E7B402F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F426-7373-41DC-BD44-08A113D1A8E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10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6B61-025A-4FDB-9DC9-CEEBD0F2996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EE55-6E1F-4D71-A658-E809A1848A1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CE4A-C7DE-45F9-8D33-337CA213790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6DD5-B25A-4038-976E-B49A3EA28CC2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3629-30C1-46DA-96E5-96F2B7E41F04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6386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685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525780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3581280"/>
            <a:ext cx="1371600" cy="1219320"/>
          </a:xfrm>
          <a:custGeom>
            <a:avLst/>
            <a:gdLst>
              <a:gd name="textAreaLeft" fmla="*/ 594720 w 1371600"/>
              <a:gd name="textAreaRight" fmla="*/ 776880 w 1371600"/>
              <a:gd name="textAreaTop" fmla="*/ 528840 h 1219320"/>
              <a:gd name="textAreaBottom" fmla="*/ 690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90" y="11047"/>
                </a:lnTo>
                <a:lnTo>
                  <a:pt x="368" y="13595"/>
                </a:lnTo>
                <a:lnTo>
                  <a:pt x="8922" y="11559"/>
                </a:lnTo>
                <a:lnTo>
                  <a:pt x="1447" y="16200"/>
                </a:lnTo>
                <a:lnTo>
                  <a:pt x="9183" y="12019"/>
                </a:lnTo>
                <a:lnTo>
                  <a:pt x="3163" y="18437"/>
                </a:lnTo>
                <a:lnTo>
                  <a:pt x="9553" y="12396"/>
                </a:lnTo>
                <a:lnTo>
                  <a:pt x="5400" y="20153"/>
                </a:lnTo>
                <a:lnTo>
                  <a:pt x="10009" y="12664"/>
                </a:lnTo>
                <a:lnTo>
                  <a:pt x="8005" y="21232"/>
                </a:lnTo>
                <a:lnTo>
                  <a:pt x="10518" y="12805"/>
                </a:lnTo>
                <a:lnTo>
                  <a:pt x="10800" y="21600"/>
                </a:lnTo>
                <a:lnTo>
                  <a:pt x="11047" y="12810"/>
                </a:lnTo>
                <a:lnTo>
                  <a:pt x="13595" y="21232"/>
                </a:lnTo>
                <a:lnTo>
                  <a:pt x="11559" y="12678"/>
                </a:lnTo>
                <a:lnTo>
                  <a:pt x="16200" y="20153"/>
                </a:lnTo>
                <a:lnTo>
                  <a:pt x="12019" y="12417"/>
                </a:lnTo>
                <a:lnTo>
                  <a:pt x="18437" y="18437"/>
                </a:lnTo>
                <a:lnTo>
                  <a:pt x="12396" y="12047"/>
                </a:lnTo>
                <a:lnTo>
                  <a:pt x="20153" y="16200"/>
                </a:lnTo>
                <a:lnTo>
                  <a:pt x="12664" y="11591"/>
                </a:lnTo>
                <a:lnTo>
                  <a:pt x="21232" y="13595"/>
                </a:lnTo>
                <a:lnTo>
                  <a:pt x="12805" y="11082"/>
                </a:lnTo>
                <a:lnTo>
                  <a:pt x="21600" y="10800"/>
                </a:lnTo>
                <a:lnTo>
                  <a:pt x="12810" y="10553"/>
                </a:lnTo>
                <a:lnTo>
                  <a:pt x="21232" y="8005"/>
                </a:lnTo>
                <a:lnTo>
                  <a:pt x="12678" y="10041"/>
                </a:lnTo>
                <a:lnTo>
                  <a:pt x="20153" y="5400"/>
                </a:lnTo>
                <a:lnTo>
                  <a:pt x="12417" y="9581"/>
                </a:lnTo>
                <a:lnTo>
                  <a:pt x="18437" y="3163"/>
                </a:lnTo>
                <a:lnTo>
                  <a:pt x="12047" y="9204"/>
                </a:lnTo>
                <a:lnTo>
                  <a:pt x="16200" y="1447"/>
                </a:lnTo>
                <a:lnTo>
                  <a:pt x="11591" y="8936"/>
                </a:lnTo>
                <a:lnTo>
                  <a:pt x="13595" y="368"/>
                </a:lnTo>
                <a:lnTo>
                  <a:pt x="11082" y="8795"/>
                </a:lnTo>
                <a:lnTo>
                  <a:pt x="10800" y="0"/>
                </a:lnTo>
                <a:lnTo>
                  <a:pt x="10553" y="8790"/>
                </a:lnTo>
                <a:lnTo>
                  <a:pt x="8005" y="368"/>
                </a:lnTo>
                <a:lnTo>
                  <a:pt x="10041" y="8922"/>
                </a:lnTo>
                <a:lnTo>
                  <a:pt x="5400" y="1447"/>
                </a:lnTo>
                <a:lnTo>
                  <a:pt x="9581" y="9183"/>
                </a:lnTo>
                <a:lnTo>
                  <a:pt x="3163" y="3163"/>
                </a:lnTo>
                <a:lnTo>
                  <a:pt x="9204" y="9553"/>
                </a:lnTo>
                <a:lnTo>
                  <a:pt x="1447" y="5400"/>
                </a:lnTo>
                <a:lnTo>
                  <a:pt x="8936" y="10009"/>
                </a:lnTo>
                <a:lnTo>
                  <a:pt x="368" y="8005"/>
                </a:lnTo>
                <a:lnTo>
                  <a:pt x="8795" y="1051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05120" y="1447920"/>
            <a:ext cx="6962760" cy="5048280"/>
            <a:chOff x="1905120" y="1447920"/>
            <a:chExt cx="6962760" cy="5048280"/>
          </a:xfrm>
        </p:grpSpPr>
        <p:sp>
          <p:nvSpPr>
            <p:cNvPr id="257" name=""/>
            <p:cNvSpPr txBox="1"/>
            <p:nvPr/>
          </p:nvSpPr>
          <p:spPr>
            <a:xfrm>
              <a:off x="1905120" y="1447920"/>
              <a:ext cx="632448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33cc33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食物中的营养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486400" y="6172200"/>
              <a:ext cx="338148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73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666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维生素和矿物质有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调节身体机能</a:t>
            </a:r>
            <a:r>
              <a:rPr b="0" lang="zh-CN" sz="4800" spc="-1" strike="noStrike">
                <a:solidFill>
                  <a:srgbClr val="0a5442"/>
                </a:solidFill>
                <a:latin typeface="Arial"/>
              </a:rPr>
              <a:t>的作用，它们的种类非常多，是我们保持健康不可缺少的营养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0880" y="533520"/>
            <a:ext cx="556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怎样才知道食物中含有哪些营养呢？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1371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我们可以通过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实验和查阅资料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的方法辨别食物中含有的营养成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18604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33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脂肪的辨别方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用棉签蘸一点食用油，涂在白纸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分别用肥肉、花生米等在白纸上挤压、滑动。含有脂肪的食物在白纸上会留下油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960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淀粉的辨别方法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1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在淀粉糊中滴入一滴碘酒，会看到淀粉变成蓝色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2.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分别在不同的食物上滴一滴碘酒，观察实验现象。如果发现有变蓝色的现象出现，说明这种食物中含有淀粉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21312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们的身体需要各种营养，这些营养都储存在种类丰富的食物中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丰富的食物是能够摄取各种丰富的营养的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80880"/>
            <a:ext cx="1828800" cy="7621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66">
                  <a:alpha val="4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结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方正姚体"/>
                <a:ea typeface="方正姚体"/>
              </a:rPr>
              <a:t>考考你：填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50532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把食物放在白纸上挤压滑动，白纸上留下油渍，说明这种食物含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(          )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在食物上滴碘酒，是为了检验食物中是否含有（           ）；想知道食物中是否含有蛋白质、维生素等可以看食品标签或（                      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143000"/>
            <a:ext cx="8534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人体维持健康需要蛋白质（            ）、（      ）、（        ）、矿物质、水和膳食纤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1676520"/>
            <a:ext cx="70628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，你有哪些收获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3657600" cy="289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914400"/>
            <a:ext cx="69343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能从种类丰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的食物中获得什么营养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81480" y="3689280"/>
            <a:ext cx="396252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5280" y="21636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食物所含的营养成分非常丰富，通常分为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蛋白质、糖类、脂肪、维生素和矿物质以及水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e6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19320" y="42638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人体是由无数细胞构成的，蛋白质是其主要部分，因此构成和修补人体组织是蛋白质最主要的生理功能。人体细胞要不断地更新，所以每天都必须摄入一定量的蛋白质，作为构成和修补组织的“建筑材料”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■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蛋白质参与构成人体的各类重要的生命活性物质。体内蛋白质的种类数以千计，其中包括人类赖以生存的无数的酶类、多种激素、抗体等，这些酶、激素、抗体大都由蛋白质构成的。此外，蛋白质还参与调节渗透压和体内酸碱平衡以及供给能量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94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762120"/>
            <a:ext cx="49528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蛋白质是构成人体肌肉、内脏、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头发、指甲和血液的主要成分。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1752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脂肪和糖类是人体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能量的主要来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我们的身体可以储存大量的脂肪和糖类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091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资料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63600" y="4265280"/>
            <a:ext cx="78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几乎一切天然食物中都含有脂类，脂类是一种很重要的有机化合物，是人体必不可少的组成成份之一。其主要分为动物脂肪和植物脂肪，它们由于所含化学元素的种类、数量以及结构不同，而各有各的功能、营养价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18741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糖类在人体内消化后，主要以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</a:rPr>
              <a:t>葡萄糖</a:t>
            </a:r>
            <a:r>
              <a:rPr b="0" lang="zh-CN" sz="3600" spc="-1" strike="noStrike">
                <a:solidFill>
                  <a:srgbClr val="0a5442"/>
                </a:solidFill>
                <a:latin typeface="Arial"/>
              </a:rPr>
              <a:t>的形式被吸收利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4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